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pct" ContentType="image/x-pict"/>
  <Override PartName="/ppt/media/image6.png" ContentType="image/pn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BAE-888D-408D-911C-EF6E322E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7ED-6C9E-4093-AEC6-0CC4C94C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1C0-2E5F-4078-A00D-6C3D96B6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FCC-03DC-4E4E-83B2-1123977D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7EF-C332-47DB-AAC3-9457FA40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E894-CF5D-4BB5-B228-8EC64C9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9CF-AAE2-42DE-A5CC-ECEACCB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B8D-DFF9-444E-A59D-CC8B20C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935-B57A-46E4-B7B1-1C0DE522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833-0F35-4BCC-B927-8A72AD26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C29-3051-496D-AE3A-6509BD1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5A8-AF57-4872-8B3D-26632BE2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B93F-B327-4A24-83BD-39EF64D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1B0-8C4F-4BD6-B228-77003F4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73D2-CF43-431B-8BA1-D56DE8A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363-29B3-45C4-B515-F1498F95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A256-C043-44E6-A123-A5458644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C2B-6193-4208-A7B1-29D663A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CDD-DBCD-488F-A5BB-7467096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695-155E-442E-B8A1-014AF19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2D1-02F6-482B-8965-0131A06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84C-827E-469F-BB5B-4A4A8A6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BAB-066F-4549-A985-0320ABA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A54-1D25-477D-82DF-D5F0803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570-12E9-4C7C-B0EC-F2DE009668C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DB1-6CA8-434C-A8FC-98159ADD4C3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01992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3T13:11:50Z</dcterms:modified>
  <cp:revision>3</cp:revision>
  <dc:subject/>
  <dc:title>PowerPoint Presentation</dc:title>
</cp:coreProperties>
</file>